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5B4A-B230-49DE-8A12-AB2A9A611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ADD-955C-4FEC-9E9A-478D371D3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D57-600C-4ACC-97FD-7B32453C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4D2-9905-44B0-9F0F-F54019F7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CC6-E186-4764-AEF6-3A05FAA6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33A-3E03-4C8F-9964-3F24C51A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AF6-3DA1-44FA-9BA4-8ACEA796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148-59A2-49FA-B4FC-309CC6A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8B9-3F9C-42E1-8EBE-260D51F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626-4D35-4DDA-8396-A648AB80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8E2-A875-48DE-9C20-BC042A1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382-5950-4FD4-A046-C856C9D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429-1D37-499F-90F6-4C9EABC6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B7B-F726-49DC-8498-55366B4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F7E-F453-438F-B06D-3F3FAC9DA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FC3D-6BF7-426C-9753-EAA09726D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январ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C9A0-D7FB-4D0B-BBD7-0158CBE5F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января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1-10T10:46:24Z</dcterms:modified>
  <cp:revision>134</cp:revision>
  <dc:subject/>
  <dc:title>Презентация PowerPoint</dc:title>
</cp:coreProperties>
</file>